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F863E-DCA3-4C1F-9A39-3E2698299F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292D-5ACF-433B-B180-25B51BBF2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1ACBF-4883-4DBD-A79E-2851C01E1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DCD34-0D5F-46AF-8C67-AEA7947A9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EBAD0-33FB-4D93-A754-B70C95A56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7274B-16BB-4B1C-A182-760143F16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4047-23E8-442F-A416-4C7851FAC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DA808-5919-45A7-9618-03736B692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40954-AA4E-4144-8ABB-6380EBE5B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A4F82-BBBF-4F06-A971-A0F88047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82E7B-169A-482E-A69A-87FBA3514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BC413-BE84-408A-A763-F4436E07C2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0C5A-ABB6-474B-88EE-A9E1C5E3502C}"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r strategies of good successful language learners</a:t>
            </a:r>
            <a:endParaRPr b="0" lang="en-US" sz="40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development of cognitive learning theory has spurred researchers to investigate the </a:t>
            </a:r>
            <a:r>
              <a:rPr b="0" i="1" lang="en-US" sz="3000" spc="-1" strike="noStrike">
                <a:solidFill>
                  <a:srgbClr val="000000"/>
                </a:solidFill>
                <a:latin typeface="Calibri"/>
              </a:rPr>
              <a:t>cognitive processes</a:t>
            </a:r>
            <a:r>
              <a:rPr b="0" lang="en-US" sz="3000" spc="-1" strike="noStrike">
                <a:solidFill>
                  <a:srgbClr val="000000"/>
                </a:solidFill>
                <a:latin typeface="Calibri"/>
              </a:rPr>
              <a:t> and what goes on in the second language learner’s min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se research findings have made many see the importance of </a:t>
            </a:r>
            <a:r>
              <a:rPr b="0" i="1" lang="en-US" sz="3000" spc="-1" strike="noStrike">
                <a:solidFill>
                  <a:srgbClr val="000000"/>
                </a:solidFill>
                <a:latin typeface="Calibri"/>
              </a:rPr>
              <a:t>individual variation </a:t>
            </a:r>
            <a:r>
              <a:rPr b="0" lang="en-US" sz="3000" spc="-1" strike="noStrike">
                <a:solidFill>
                  <a:srgbClr val="000000"/>
                </a:solidFill>
                <a:latin typeface="Calibri"/>
              </a:rPr>
              <a:t>in language learn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ertain learners appear to be endowed with abilities to succeed while others lack those abilities and fal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otion that special learning techniques or strategies might assist second language acquisition has led Rudin (1975) and Stern (1975) to conduct studies on strategies used by successful language learners in terms of personal characteristics, styles and strate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n and Thompson (1982) later summarized fourteen such characteristic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ood Language Learners: (Rubin &amp; Thompson, 1982)</a:t>
            </a: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nd their own way, taking charge of their learn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rganise information about languag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re creative, developing a “feel” for the language by experimenting with its grammar and wor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their own opportunities for practice in using the language inside and outside the classroo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earn to live with uncertainty by not getting frustrated and by continuing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mnemonics and other memory strategies to recall what has been lear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ke errors work for them and not against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linguistic knowledge, including knowledge of their first language, in learning a second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contextual cues to help them in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to make intelligent gu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chunks of language as wholes and formalized routines to help them perform “ beyond their compe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certain tricks that help to keep conversations go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certain production strategies to fill gaps in their own compet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 different styles of speech and writing and learn to vary their language according to the formality of the situ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29T05:43:35Z</dcterms:modified>
  <cp:revision>7</cp:revision>
  <dc:subject/>
  <dc:title>Learning How To Learn</dc:title>
</cp:coreProperties>
</file>